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13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media/image6.png" ContentType="image/png"/>
  <Override PartName="/ppt/media/chimes.wav" ContentType="audio/x-wav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5CE-B40C-480C-AECE-72BEAE26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D1F-8F22-4409-B144-1FA87815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D74-F130-415A-BC32-BAD05136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96B-766A-4B80-ADAB-60228A2B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B568-ACA6-4B89-8143-F4A2E682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16F9-03B4-4B24-81B0-D9E40898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1D99-DE46-4754-8487-FDB2B3EF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1AD7-DC0B-456C-BA3F-7DC240BF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146B-1233-4B97-B669-66DA24D6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EAF7-6029-496D-BFFC-16A75C6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241F-632A-4394-9BC5-27BB5960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3CE-950D-45C2-B14A-E8E59F87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AD80-6680-4E7C-8569-5950E464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9F58-EA7F-486A-AC8C-76CF41FE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2532-6311-4FA3-A1BC-12D22EF3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C528-CF90-46D1-94B6-F82A1685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12BF-E357-4C40-AE16-E2626A8B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CC1-B6A1-4861-A225-86C49DBA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B81-BFF9-4468-AB63-13173A0A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074-468A-4EE2-B4BA-D7C9F4D0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2DE-49D3-47D7-BF65-DC0A39B2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024-58E5-4832-AD05-4BA4125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D3D-6B91-45C0-8E6C-889C7CD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B8D-5CBC-473B-9743-FAD67704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BC1D-CD84-4D1B-8675-BF61EE383EEC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FEC9-B3FA-475D-B635-F364BC0359AF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window.clearTimeout(_ht%5B8%5D)%3Bqs_show_frame(event,this,8)%3B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0" y="99072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3360"/>
            <a:ext cx="40561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3124080"/>
            <a:ext cx="2362320" cy="1844640"/>
            <a:chOff x="609480" y="3124080"/>
            <a:chExt cx="2362320" cy="1844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09480" y="3124080"/>
              <a:ext cx="11876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676520" y="3900600"/>
              <a:ext cx="1295280" cy="10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0" y="5591160"/>
            <a:ext cx="6458040" cy="1266840"/>
            <a:chOff x="0" y="5591160"/>
            <a:chExt cx="6458040" cy="126684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0" y="5591160"/>
              <a:ext cx="2190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267080" y="5646600"/>
              <a:ext cx="21909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2133720" y="5622840"/>
              <a:ext cx="219060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600" y="54864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考考你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88452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447920"/>
            <a:ext cx="8991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判断题：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包装上的信息，能为我们科学、均衡、营养地选择食物提供帮助。（       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自身的特点、保存方法、配料等都会影响食品的保质期长短。（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保质期短的食物一定比保质期长的食物好。（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厂家生产食品时采用不同的包装，仅仅是为了美观，提高销量。（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5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添加剂能改善食品的色香味，但是食用过多对人体有害。（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2448000" cy="248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752480" y="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认识吗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168720" cy="253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448164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362320" y="4494240"/>
            <a:ext cx="2819160" cy="217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2664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：防腐剂我国允许使用的共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种。许多食品都含有防腐剂，过多或长期食用还有可能产生病变，形成有强烈致癌作用的物质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通常允许使用的绿色防腐剂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山梨酸钾”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468440" cy="173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67080" y="55627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5520" y="2039040"/>
            <a:ext cx="87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食品添加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是指为改善食品品质和色、香、味，以及为防腐和加工工艺的需要而加入食品中的化学合成或天然物质。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6650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转化糖浆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一种淡黄色透明液体，具有粘度小、溶解度与吸水性高、甜味好的特点。甜味为砂糖的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.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倍。蔗糖在受触媒催化，与水起分解作用，还原成葡糖糖和果糖。一分子的蔗糖水解后为一分子的葡萄糖及一分子的果糖，而蔗糖原有的旋光性也由左旋转为右旋，此转化后的混合物就是转化糖，反应结束后加入碱液中和酸性就得到转化糖浆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47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膨松剂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化学膨松剂可以分为两种：一是碱性膨松剂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如碳酸氢钠（小苏打）、碳酸氢铵（臭粉）；另一种是复合膨松剂，如钾明矾和铵明矾。碱性膨松剂在一定温度下在面团中缓慢分解，从而释放出二氧化碳，使面团膨胀；复合膨松剂则是由碱剂、酸剂与填充剂混合而成，在加热的面团中，酸和碱会产生反应释放出二氧化碳。我国最古老的油条，就是面粉中加入化学膨松剂明矾油炸而成。明矾中含有铝，对人体是极有危害的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膨松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所以又松又脆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54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食用香精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参照天然食品的香味，采用天然和天然等同香料、合成香料经精心调配而成具有天然风味的各种香型的香精。包括水果类水质和油质、奶类、家禽类、肉类、蔬菜类、坚果类、蜜饯类、乳化类以及酒类等各种香精，适用于饮料、饼干、糕点、冷冻食品、糖果、调味料、乳制品、罐头、酒等食品中。食用香精的剂型有液体、粉末、微胶囊、浆状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7720"/>
            <a:ext cx="896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乳化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需要量较大的一种食品添加剂，世界食用乳化剂允许使用的品种约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余种，我国已批准使用的品种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种。主要品种有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卵磷脂，属于从动植物提取的天然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和营养强化剂。主要品种是大豆卵磷脂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蔗糖脂肪酸酯。可以代替食用油，又不产生热量，不至使人发胖，还有降血清胆固醇等作用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甘油脂肪酸酯等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609588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一、观察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观察食品包装袋或包装盒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09680"/>
            <a:ext cx="81532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59085"/>
                </a:solidFill>
                <a:uFillTx/>
                <a:latin typeface="Arial"/>
                <a:hlinkClick r:id="rId1"/>
              </a:rPr>
              <a:t>讨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食品为什么会有这么多种不同的包装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一般的包装袋上有哪几类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我们从食品包装袋上能获得哪些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5880" y="405432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需要避光的食物，包装一般是不透明的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怕磕碰的食物，包装大多比较硬实；肉制食品多为真空包装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480" y="5181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食品的配料、营养成分、保质期和保存方式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79160"/>
            <a:ext cx="8893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一般的食品包装上都有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日期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保质期或有限期限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配料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条形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净含量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标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厂家信息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QS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标识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标准号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标签认可号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许可证号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贮藏方法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版权声明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营养成分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图案  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广告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环保标志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口味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注意事项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图案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品名称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吸管孔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\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易撕口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列表记录几种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生产日期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日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2209680"/>
          <a:ext cx="8229600" cy="434340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752840"/>
                <a:gridCol w="1673280"/>
                <a:gridCol w="14508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食品名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生产日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质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存条件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50920"/>
            <a:ext cx="88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近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4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早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8414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新鲜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短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长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保质期最短和最长的两种食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特点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食品的特点是否是影响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1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包装和保存的方法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不同的包装和保存方法是否是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8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配料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是否有影响保质期长短的因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44370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如果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同一种食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我们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还是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短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66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选择食品应根据实际需要：如果是短期内能食用完的，一般考虑保质期短的食品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调查了解食品的配料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00" y="10526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看看食品的配料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-1192320" y="32878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牛奶饼干的配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20" y="189000"/>
            <a:ext cx="21913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把我们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方正姚体"/>
              </a:rPr>
              <a:t>熟悉的配料</a:t>
            </a: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找出来，推测它们在食品中起的作用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981000"/>
            <a:ext cx="705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麦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饼干的主要成分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白砂糖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精炼植物油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全脂奶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食盐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884160" cy="13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24360" y="333360"/>
            <a:ext cx="309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转化糖浆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膨松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食用香精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53000"/>
            <a:ext cx="34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知道吗，一些</a:t>
            </a:r>
            <a:r>
              <a:rPr b="0" lang="zh-CN" sz="3200" spc="-1" strike="noStrike" u="sng">
                <a:solidFill>
                  <a:srgbClr val="559085"/>
                </a:solidFill>
                <a:uFillTx/>
                <a:latin typeface="Arial"/>
                <a:hlinkClick r:id="rId1" action="ppaction://hlinksldjump"/>
              </a:rPr>
              <a:t>添加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对人体有害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84160" cy="13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8380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我们不熟悉的配料找出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猜猜它们是些什么东西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9T05:4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